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D38-83AC-491E-9D0F-264081C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1EF-9936-4590-AE18-45DB0D7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6B5-164A-460D-AA53-D67173A7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8D2-F690-4AF7-A35B-F113D42F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93A-B17C-4D30-80D4-D012F50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6C5-36B0-4B3A-9099-AF92528F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337-5E44-415B-8C13-E5B9D236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0C9-BF68-42E5-BAF3-92102165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AE3-E69B-4AF3-875E-E227C86D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303-1661-4CB2-B265-784C7845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7F2-B26B-40D2-8644-B31A5EF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30C-9A16-4AEC-ADBE-ED6CD9B8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Wo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43C3-D63A-4BAA-962D-7EEC7D58D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ří B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Excelu můžeme jednoduše počíta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2852640"/>
          <a:ext cx="6919920" cy="16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852640"/>
                    <a:ext cx="691992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Excelu můžeme jednoduše vytvářet graf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47640" y="1628640"/>
          <a:ext cx="625968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628640"/>
                    <a:ext cx="62596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Excelu můžeme spravovat menší databáze a data v nich tříd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63640" y="1895400"/>
          <a:ext cx="748188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895400"/>
                    <a:ext cx="74818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el velmi dobře spolupracuje např. 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em MS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em MS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1:22:54Z</dcterms:created>
  <dc:creator>Jiří Beran</dc:creator>
  <dc:description/>
  <dc:language>en-US</dc:language>
  <cp:lastModifiedBy>Jiří Beran</cp:lastModifiedBy>
  <dcterms:modified xsi:type="dcterms:W3CDTF">2005-11-14T22:42:51Z</dcterms:modified>
  <cp:revision>3</cp:revision>
  <dc:subject/>
  <dc:title>MS Excel</dc:title>
</cp:coreProperties>
</file>